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855-AB52-4719-BC1D-ECAF990D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0871-AC3D-4FA5-88CA-01DDE7A8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4819-2707-4CB7-BE9D-B4401BF4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BCC-7CD5-4294-AC13-43B200C9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701C-D345-4C70-8050-85E2705C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C434-6E20-4170-99B3-F187A72C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4420-BC75-4645-B9CE-1FE503B4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E276-FD8C-4B80-A26D-E498C400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FB7C-19C8-42B9-8DEA-CCFCC904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3D02-658F-4845-9C6B-84634269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0DD7-AFF9-4009-A707-C03D68A8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2CE-0673-44E9-BFA4-F0681E15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A4ED-A793-4268-B06F-EC05CB0C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FFA7-AA03-4E02-A85C-5E42A89E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7265-0742-4714-BA8D-1E78EAC7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3F00-9FDA-4AC6-97CB-5D5A8DFD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337D-ED5E-4815-B82F-39E03F90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0B3-BF57-49BD-A20D-9508E8FA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1DBC-36B7-40CC-A163-9C94D326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45E-7BD6-4F34-B8C5-0B285486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962-10B7-49EB-B24A-D16BBDA0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AC1-D88C-4A38-8D50-34FF693C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355-4C79-44D7-8310-A8F7899B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7BA-1A48-4CA6-A4B3-EC8E65DD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889D-6A71-439B-BE05-CED3B36A7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EB9A-7279-400D-9172-8A300DB77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vermont.shtml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enchantedlearning.com/usa/states/vermont/" TargetMode="External"/><Relationship Id="rId4" Type="http://schemas.openxmlformats.org/officeDocument/2006/relationships/hyperlink" Target="http://www.enchantedlearning.com/usa/flags/vermont/vermontflag.shtml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enchantedlearning.com/usa/states/vermont/" TargetMode="External"/><Relationship Id="rId7" Type="http://schemas.openxmlformats.org/officeDocument/2006/relationships/hyperlink" Target="http://www.enchantedlearning.com/usa/states/vermont/" TargetMode="External"/><Relationship Id="rId8" Type="http://schemas.openxmlformats.org/officeDocument/2006/relationships/hyperlink" Target="http://www.enchantedlearning.com/usa/states/vermont/" TargetMode="Externa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629400" y="5181480"/>
            <a:ext cx="2514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in 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17-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800" y="380880"/>
            <a:ext cx="457200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100000">
                      <a:srgbClr val="b76a03"/>
                    </a:gs>
                  </a:gsLst>
                  <a:lin ang="5400000"/>
                </a:gradFill>
                <a:latin typeface="Arial Black"/>
              </a:rPr>
              <a:t>Vermo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100000">
                    <a:srgbClr val="b76a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9480" y="4800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5181480"/>
            <a:ext cx="32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owa Song ; Fifty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Iowa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ct. 25, 2011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ww.fiftystate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1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ital: Mountpe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pulation: 608,82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ered the Union: March 4, 1791, 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to: Freedom and Un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name: Green Mountain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wer: Red Cl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rd: Hermit Thru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ng: “Hail Vermo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ing Behind Name: “Verts Monts” French for Green mounta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esting Facts: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mallest state (in population). Many people come for the minerals found in the mounta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0"/>
            <a:ext cx="2590920" cy="6400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124080" y="5254560"/>
            <a:ext cx="2895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chanted Learning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mo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October 18, 2011,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http://www.enchantedlearning.com/usa/states/vermont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is a map showing the mountains and cities of Vermo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1981080"/>
            <a:ext cx="3200400" cy="2286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5880" y="4572000"/>
            <a:ext cx="30481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chanted Learning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mo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October 18, 2011,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http://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  <a:hlinkClick r:id="rId7"/>
              </a:rPr>
              <a:t>www.enchantedlearning.com/usa/states/vermont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  <a:hlinkClick r:id="rId8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10666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is a picture of the flag of Vermo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3705480" cy="3294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8120" y="4952880"/>
            <a:ext cx="30477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chanted Learning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mo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October 18, 2011, http://www.enchantedlearning.com/usa/states/vermont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457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is a picture of Vermont’s state insect, the honey b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762120" y="609480"/>
            <a:ext cx="7315200" cy="5105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14400" y="228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is a picture of a bridge that was made of marble in Vermo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5803920"/>
            <a:ext cx="7696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stcards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mo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Oct. 25, 11, http://www.postcardsfrom.com/t1/971029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1Z</dcterms:created>
  <dc:creator>install</dc:creator>
  <dc:description/>
  <dc:language>en-US</dc:language>
  <cp:lastModifiedBy>install</cp:lastModifiedBy>
  <dcterms:modified xsi:type="dcterms:W3CDTF">2011-10-27T13:10:19Z</dcterms:modified>
  <cp:revision>8</cp:revision>
  <dc:subject/>
  <dc:title>Slide 1</dc:title>
</cp:coreProperties>
</file>